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E519-950F-49C7-88D1-E58A61F78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at the object is an isotropic homogene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mable material in a non flammable surrounding space and that its bound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set on fire. The fire will propagate inwards until two or more flame fronts col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cation of all such collisions, is the locus of the medial 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at the object is an isotropic homogene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mable material in a non flammable surrounding space and that its bound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set on fire. The fire will propagate inwards until two or more flame fronts col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cation of all such collisions, is the locus of the medial 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at the object is an isotropic homogene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mable material in a non flammable surrounding space and that its bound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set on fire. The fire will propagate inwards until two or more flame fronts col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cation of all such collisions, is the locus of the medial 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at the object is an isotropic homogene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mable material in a non flammable surrounding space and that its bound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set on fire. The fire will propagate inwards until two or more flame fronts col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cation of all such collisions, is the locus of the medial 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6117-A2C5-4784-9588-99531D068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DC80-FB71-46F4-9F98-52E67E0E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FE73-7FB8-4DB6-A56D-4E63A811A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9616-F914-4CDF-B609-460D16D19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17DE-A6E5-4EEB-B423-15E9523C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B608-6453-4EBB-9ECF-BA7CA325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BEBC-9528-4C00-BA6A-F95F978A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EC12-E849-4ED9-8DE2-AD3D12E8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1512-50F4-4FBE-8C2D-242330F3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7B20-839C-45A7-AFBF-05D5A08F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DB2F-CC2F-431F-9BC8-8151BFD2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5AF5-5FD0-4CC3-AD9A-3663796E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6B34-2083-4D0F-A764-5876A95AE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8382240" cy="11412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498600" y="6172200"/>
            <a:ext cx="8153280" cy="0"/>
          </a:xfrm>
          <a:prstGeom prst="line">
            <a:avLst/>
          </a:prstGeom>
          <a:ln w="25560">
            <a:solidFill>
              <a:srgbClr val="005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194480" y="6251400"/>
            <a:ext cx="340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National Alliance for Medical Image Computing </a:t>
            </a:r>
            <a:br>
              <a:rPr sz="1200"/>
            </a:br>
            <a:r>
              <a:rPr b="0" i="1" lang="en-US" sz="1200" spc="-1" strike="noStrike">
                <a:solidFill>
                  <a:srgbClr val="808080"/>
                </a:solidFill>
                <a:latin typeface="Arial"/>
              </a:rPr>
              <a:t>http://na-mic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 Set Se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H="1">
            <a:off x="1371600" y="213372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447560" y="1676520"/>
            <a:ext cx="1066680" cy="75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38280" y="13716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inimal curv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19810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pwind 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H="1">
            <a:off x="1828800" y="175248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828800" y="236232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828800" y="266688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08:40:53Z</dcterms:created>
  <dc:creator> </dc:creator>
  <dc:description/>
  <dc:language>en-US</dc:language>
  <cp:lastModifiedBy>Sylvain Bouix</cp:lastModifiedBy>
  <dcterms:modified xsi:type="dcterms:W3CDTF">2005-05-26T15:45:19Z</dcterms:modified>
  <cp:revision>80</cp:revision>
  <dc:subject/>
  <dc:title>PowerPoint Presentation</dc:title>
</cp:coreProperties>
</file>